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516-8D8D-466B-AF0F-95D6E57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6DD-3F58-416A-9F5F-59164FC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28E-092A-4E56-9E47-D9F49309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6D3-392E-418A-8CA9-F0FE4C0A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BE7-5B5C-474E-B918-452DFE23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433-58F3-435D-8E9A-69EF5314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DFD-5F13-44A6-965F-06B0E73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C0A-8F4E-4368-96BB-D27103E8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793-46A8-4C7A-AD05-D518513D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81C-1F35-4D1D-B789-FEAE031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A59-F5EF-475A-A113-504D9160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0D1-0692-4877-B3DC-BCAA259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978B-8FA3-4081-AABB-4699A046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ide 1 – Part of Plants: Ro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lants have structures that can be described as roots which gather water from the soil. In the water other necessary molecules are also absorbed such as nitrate or am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s prevent the plant from falling over acting like the anchor in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r the root system the easier it will be for the plant to absorb water and nutr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657600" cy="437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048120" y="3808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ot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s of Plants: 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s connect the roots to the leaves, as well as support the leaves into the 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stem are tube-like tissues that transport the necessary molecules back and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ssues that transport water and other nutrients from the soil up to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lo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ssues that transport sugars from the leaves down to the rest of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29720" cy="5762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676520" y="228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Section of a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s of Plants: Leaves par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carry out photosynthe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er cells of the leaf are the epidermis. On the underside of leaves are opening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om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. st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oma are surrounded by cell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ard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pen and close to allow carbon dioxide to enter and oxygen to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day when temperatures are hottest the guard cells close to prev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evaporation of water out of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s of Plants: Leaves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 surface of each leaf is covered in a waxy coating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prevents any transpiration through the top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internal portion of the leaf are cells that contain many chloroplasts. These cells make up tissue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sophy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y conduct photosynthesis and produce sugar for the plant to 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leaves are veins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scular bun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se contain the xylem and phloem tissues which bring water into the leaf and take sug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9560" y="33480"/>
            <a:ext cx="772488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7:52:58Z</dcterms:created>
  <dc:creator>AISD</dc:creator>
  <dc:description/>
  <dc:language>en-US</dc:language>
  <cp:lastModifiedBy>Chris</cp:lastModifiedBy>
  <dcterms:modified xsi:type="dcterms:W3CDTF">2010-07-13T16:34:47Z</dcterms:modified>
  <cp:revision>4</cp:revision>
  <dc:subject/>
  <dc:title>Slide 1 – Part of Plants: Roots</dc:title>
</cp:coreProperties>
</file>